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6BE-E9EE-4291-BD67-E1F7F052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8C4-1415-4CE1-B0CB-BF6EF9B9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4A2-935E-44CF-B45E-DE1FD9CE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0DA-06C0-42F7-8F66-D830F953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5BB7-BF46-42F9-BDB7-9029D8A9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2FD2-F24A-4DA5-A7E0-6E3482E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8838-A59C-4B19-91F2-C70543D7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42FD-1185-4245-9716-5802B44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698-C5EA-4ED0-81D8-9387D2B3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425F-9B7C-4399-8CF8-A5072087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FF3D-6BB8-4B17-89F8-B4012789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27E-1B4D-4F3D-BD91-1F073AE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27AC-01C0-4DA7-9177-488F29B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CFC1-94A9-424F-A216-516A74AC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365F-EEE4-4495-89D4-E2CD55D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CCBA-E0F3-40DB-8B58-A92C5CE0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FF85-D0F2-47ED-8104-BC228A6C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B71-26E5-4B11-B34E-8CDB7FE3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444-F678-417F-B259-127621DA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4C0-C565-414A-ACE4-03E7E36A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9CD-DB51-49F2-95B7-8F05174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C3E-7645-4BAD-B176-111552A9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5BD-415F-4704-9DE5-530456E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AAF-76EE-48A9-B358-E6A8F5BA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3810-1028-4E55-A3FA-0FEEF5C285A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4F95-E402-4BC2-B39D-0A1C3625B53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Go Tell The Good News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Journey Begins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564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Quarter 11, Lesson 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s 13:33-5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ages 74-7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2630-7A41-425E-92BB-050D2B8B2D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(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cont’d)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752120"/>
            <a:ext cx="73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fter this, the Jews stirred up the leaders of the city and had Paul and Barnabas expell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nd Barnabas brushed the dust off their feet against them and moved on to Iconium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 those who had been converted were filled with joy and the Holy Spiri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5B5-256A-40BD-BABF-DE202946C9F9}" type="slidenum">
              <a:t>10</a:t>
            </a:fld>
          </a:p>
        </p:txBody>
      </p:sp>
    </p:spTree>
  </p:cSld>
  <p:transition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cont’d)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752120"/>
            <a:ext cx="7386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Gentiles rejoiced at the hope of salvation and the word of God spre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told the Jews that they had judged themselves unworthy of eternal lif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dded “This is what the Lord commanded us when He said ‘I have set you for a light to the Gentiles that you may bring salvation to the ends of the earth.’”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46F-6D16-4933-A01F-4FA14A5F0E62}" type="slidenum">
              <a:t>11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EDA-88EE-4787-ADB9-B60C083D97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n Antioch of Pisidia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13-15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ul and his companions sailed north from Cyprus to Pamphyli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From there John Mark returns to Jerusalem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ul displeased since Mark “…went not with them to the work”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aul and Barnabas travel on to Antioch of Pisidia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ey are there invited to speak in the synagogue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EE1-6964-4DFE-B0D0-CF4C1201B73E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’s speech consisted of three section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srael’s history led them to the Christ   (vs 17-25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od fulfilled His promises to Israel by raising Jesus from the dead (vs 26-37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 Jesus alone is forgiveness and justification (vs 38-41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62D-0299-4EAB-98DE-452E143572A6}" type="slidenum">
              <a:t>4</a:t>
            </a:fld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cont’d)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d chose Israel’s fath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led them out of Egyp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the land of Cana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judg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a king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om David’s descendants He brought forth a savior, Jes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0A4-9C56-47F2-A91B-9874A0C7D2A8}" type="slidenum">
              <a:t>5</a:t>
            </a:fld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cont’d)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ish leaders did not accept Jesus as the Christ and killed Him, fulfilling prophec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d raised Jesus from the de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 all this, God fulfilled His promises to the fath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B0A-461C-450F-ACF6-A82C0ACEE5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(cont’d)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rough Jesus, remission of sins is preach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l who believe on Him can be justifi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eware how you hear lest you disbelieve as they did in Habbakuk’s day, and also like their brethren in Judea who rejected Jes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1D3-DBE4-4EB1-BE3B-F15B961245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mpact of Paul’s Speech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42-43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828440"/>
            <a:ext cx="750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Both Jews and God-fearing Gentiles were in the assembl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he people were excited and asked Paul and Barnabas to speak again the next Sabba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any of the Jews and devout proselytes followed them, and Paul and Barnabas persuaded them furth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o continue in God’s grace, they needed to believe and obey the message they had hear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F35-E863-4010-AFBC-40C0E904C729}" type="slidenum">
              <a:t>8</a:t>
            </a:fld>
          </a:p>
        </p:txBody>
      </p:sp>
    </p:spTree>
  </p:cSld>
  <p:transition>
    <p:cover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most the whole city came to hear Paul and Barnaba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s were filled with jealousy and began blaspheming and contradicting Pau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s rejected the message so Paul and Barnabas turned to the Genti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9C5-602E-4DA8-AC43-D316FBA976B6}" type="slidenum">
              <a:t>9</a:t>
            </a:fld>
          </a:p>
        </p:txBody>
      </p:sp>
    </p:spTree>
  </p:cSld>
  <p:transition>
    <p:cover dir="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0:58:51Z</dcterms:created>
  <dc:creator>billy lauderdale</dc:creator>
  <dc:description/>
  <dc:language>en-US</dc:language>
  <cp:lastModifiedBy>Frank D Vines</cp:lastModifiedBy>
  <dcterms:modified xsi:type="dcterms:W3CDTF">2007-02-21T19:20:40Z</dcterms:modified>
  <cp:revision>26</cp:revision>
  <dc:subject/>
  <dc:title>Go Tell The Good News “The Journey Begins”</dc:title>
</cp:coreProperties>
</file>